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5EE-F3B8-4D4E-ACA8-446DCC40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AC3-0885-4F72-A7B4-2F5EEA92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C61-758F-41D5-8FE3-EF7116F9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CF5-6C1B-4641-BAD4-E284051E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620-B216-4BB0-944C-6C0FE9D6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246-B106-4E7D-A7EA-0B47E484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24D-29B9-4883-9790-43E4B71F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6D6-F5F5-4EAD-BB6F-23DC8AC7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943-138B-4749-9331-AA646189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F8A-61DA-40F0-9DCC-4D93C143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C50-33D3-49A1-AD8C-32584A4C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8F8-FDF1-4BBF-A9E8-2ECE480F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5F05-5F84-4DF3-A689-383F34F95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8200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8200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n "filas" y 4 "column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ar sección, nombre y notas de pregunta 1 en una 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 [linea[0],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a[1:21],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(linea[21:23])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ar notas de pregunt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[i][1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.append(int(linea[21:23]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468360" y="404640"/>
            <a:ext cx="813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y guardar planilla final orde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 #ordenar por sección y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"notas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L[i][2]+L[i][3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L[i][0]+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[1]+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L[i][2])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L[i][3])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91480" cy="67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91480" cy="67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12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1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61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61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5-02T15:29:05Z</dcterms:modified>
  <cp:revision>58</cp:revision>
  <dc:subject/>
  <dc:title>Sin título de diapositiva</dc:title>
</cp:coreProperties>
</file>